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97360" y="0"/>
            <a:ext cx="29829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0" y="8831160"/>
            <a:ext cx="29829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97360" y="8831160"/>
            <a:ext cx="29829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0B9B-8D0F-4193-B837-CEA59B55ABAB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97360" y="8831160"/>
            <a:ext cx="2982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656C-B8B7-4B87-AE54-33A5A823B48E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97360" y="8831160"/>
            <a:ext cx="2982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62F5-94F0-4A3C-9234-8ECD056AF5F9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97360" y="8831160"/>
            <a:ext cx="2982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B3B5-B6A2-4E61-9894-AFF3E3F73246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97360" y="8831160"/>
            <a:ext cx="2982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FED0-C2AE-48B8-8A0C-719830470586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AAA8-3CAF-48EE-B06F-84AB2B35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1059-84FD-4BF3-8F93-56AC55A2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7F6A-21E5-4369-B196-F32B70DCC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2D3F-36F5-4C16-8E6F-3817E15D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AB95-4469-480F-90D4-751A1318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B6EC-2A58-4758-868F-7D770B29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7991-2479-4887-BDC3-0CFFC2BD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A88A-DA4B-492A-82AA-13EF07E4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C837-B314-4662-B28E-EC349C70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8E39-F568-4297-B803-EADCCCE9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B758-1594-48C2-BDBA-7C6BDC0C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B5E1-446D-43FA-8F0C-B7F5A72C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99ED-0F4C-4517-BD25-BE96F6C4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62C0-6C4F-4819-BA47-5D986D21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1B31-28D9-4EDE-9066-8B57ACE6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2E93-A63D-42C2-9E25-A60674406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006C-5FF8-4854-B025-AA87B6B0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C55A9C-1D82-4756-8CBA-3A7F0377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3EBD07-472C-4970-8A1E-5550E484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6EF24E-261A-4FDA-BBF3-78408558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6E9BE6-9014-4ABF-BAA6-98D88CF6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65D827-61C5-4940-802D-07E8CEE0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DEEF-1100-453D-8A3E-1C7A79B3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4AF89C-C0BA-4096-A5E5-9BADD9D9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7521F3-0A88-4364-B291-4E1E33B3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5D331C-069F-45A6-94E2-49CF44CB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C58953-BB47-45EA-8B0B-E23B65FC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20EDB5-A4A9-4B1F-A5AB-5FD4273F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1B9F30-696E-4957-A13A-BBF943381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29717F-537C-4ABB-8EF5-50037F7CF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4D5E42-86E7-4198-BF58-2D3603F1B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C726DF-7618-4BBF-966F-CD3E0755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781993-A178-435D-A3A3-238B038C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B306-8F55-4B67-863C-2C8EBF7E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A29A57-35B6-4245-B661-68091E67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F9504D-A213-4B98-856E-0B7F551F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7B7A16-9E25-447D-9178-6B11DBD3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7096C7-FE34-4F19-8158-5ED0D92C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C7DB25-D271-4B7A-9246-4AA45C4B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3A4EBE-F829-41CB-9ECE-F50CED01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F84B7A-A82E-4D0D-B37B-4BE0590C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C4C136-583D-4D4E-A534-199B0EE00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74D1AA-8C8D-432C-9062-ABEF92A4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EB3F21-0886-41C2-9F8E-17D03A08C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0536-C0E5-461C-BE1B-C6A67BAB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4259AB-9EEF-47CB-A651-22C5C830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EB800D-B08A-4611-87A1-7E360863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B675C4-BE26-47A7-8DD3-023A36F1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37EE20-87FD-421E-8841-ED75DE75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37752B-AFA3-4BF2-90DC-0912D9DE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DA11C4-2DD3-4654-ACED-76D577F5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D25AFF-132D-4A9A-845E-5AEA3CF4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BC5BB8-8DAB-4535-8B13-DB0BB29B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D662C5-727C-4927-9094-C456AC58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66F2EA-6EF4-4086-A239-2E27035B2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3803-3274-4537-9E08-ADCEA465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20F866-30F5-4A01-A0BB-8FC9859B2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57BC8-5806-4513-8E5E-95949406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3C179-1413-4592-B545-1BD4F9DA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0D0BC-D3CB-4F9C-9AD5-1B3C8F3E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F1226-D64D-43AF-A3B3-9472024A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39B04-971C-4DB2-9398-6B02E15C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DD1A7-DC78-4C34-B759-CB90E26B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D3A43-D60F-44F8-8FF1-072A3276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A3184-0A84-4EBF-A1D0-73CF2FD4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72171-E5C8-452D-8CF8-E817196F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2E44-7F6A-4AF7-88F2-22568E4D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FC9DE-B7AA-4FEC-B277-2341DA2C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F0743-4DD9-40C8-8304-1D7009A86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D03E6-EE23-44CF-9790-2FFBDC99B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4DC0D4-0AFE-4D7C-A83C-EE13A3EB7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54033B-E723-4C0E-9D94-9CD85689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68CAF8-AAEB-48F7-BB49-B3A4B9AA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F2B61E-A0B2-4E8B-9615-B1D65D0A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F47040-2433-4CE7-BC28-0981C437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C28239-C87B-4254-BE6F-A468FEC3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722DB4-70B3-41F2-9DB9-355921F5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C75F-18D1-4D4C-8268-52D91F7A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0D7113-9D3A-43D0-9857-ECF6C16C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D67C1D-0D7F-4328-B252-02E82461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F881C2-04F1-4D65-AC73-401A2675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6A3D44-E68E-4119-AA1A-9215BF4AD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E0DBDC-1638-4F69-93AA-3E74B95EA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94143-C515-4485-999C-BE4F4CA0E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A87E8-5976-442E-B44D-9B7A2805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CF37F-FF1B-4464-A4A1-5DCC2116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4C94F-1205-4888-86A9-18BB26B5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21B4B-1D68-4711-86B2-F47105E7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2849-DF0B-4CD4-8018-283A5651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E7E5C-8FCA-469E-B133-0B026AD1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F316D-F502-4612-A1D9-3BD7DAF5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87B26-C7EE-45DE-AB8E-67B9AE7E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9E75A-5E28-47AD-85B3-C3431AED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A2B9A-2F2D-4724-B686-96BCA69F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17F94-1FAE-4941-BF0D-C1830813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2692B-3780-4898-9185-EA301546D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3241-CB7F-4DBF-B981-87F4DCE8E112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E71B-0414-44BB-9A4D-C5D1380AA1F0}" type="slidenum">
              <a:rPr b="1" lang="en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D3F5-E37C-4270-BEFA-4BC46B98FA05}" type="datetime">
              <a:rPr b="0" lang="en-US" sz="2000" spc="-1" strike="noStrike">
                <a:solidFill>
                  <a:srgbClr val="ffffff"/>
                </a:solidFill>
                <a:latin typeface="Tw Cen MT"/>
              </a:rPr>
              <a:t>07/31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3FBF-BAE0-4508-8BA6-0428707F49B2}" type="slidenum">
              <a:rPr b="1" lang="en-CA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DFBD-13E4-431F-BF0D-2594DAAAB24A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ABC4-1FDF-4D9F-82E1-D43BC40B85D8}" type="slidenum">
              <a:rPr b="1" lang="en-CA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EFC8-BCF4-449C-9FDE-D1B10F556CAF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3AE7-9A4E-42EC-8B0B-21F29289C6F4}" type="slidenum">
              <a:rPr b="1" lang="en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03C1-E705-4813-AB1C-BDC5282135FD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9129-6D4B-4199-89C0-C0B45ECA0D36}" type="slidenum">
              <a:rPr b="1" lang="en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28D2-6F43-401D-AABA-7357EBEC221F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2936-3F01-4D35-AFF3-4F9D6F851950}" type="slidenum">
              <a:rPr b="1" lang="en-CA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9986-59D8-4E3E-962A-1E75455DC128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5FF6-4E20-49CC-AC84-9B65FE12CDB9}" type="slidenum">
              <a:rPr b="1" lang="en-CA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85BF-5B11-48C8-BCEC-B037641493B5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A5FE-D986-4453-943B-C5A77477C066}" type="slidenum">
              <a:rPr b="1" lang="en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Understanding Povert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Slide Number Placeholder 2"/>
          <p:cNvSpPr/>
          <p:nvPr/>
        </p:nvSpPr>
        <p:spPr>
          <a:xfrm>
            <a:off x="0" y="1752480"/>
            <a:ext cx="1295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E886-45A9-4329-8B8E-3076ABAA0071}" type="slidenum">
              <a:rPr b="1" lang="en-CA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nderstanding Poverty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 Canada today, many people have trouble meeting their basic needs and rarely have a chance to get the special things they wan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t is estimated that 1 out of 5 children in Canada lives with povert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verty is living below the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Standard of Livin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andard of Living is how much buying power a family has.  (Home, food, entertainment, transportation, etc.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3E46-E3F0-491A-8A37-1FDAC4152BEC}" type="slidenum">
              <a:rPr b="1" lang="en-CA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Poverty, Getting By, or Getting Ahead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609480" y="1981080"/>
          <a:ext cx="8153640" cy="4267440"/>
        </p:xfrm>
        <a:graphic>
          <a:graphicData uri="http://schemas.openxmlformats.org/drawingml/2006/table">
            <a:tbl>
              <a:tblPr/>
              <a:tblGrid>
                <a:gridCol w="2718000"/>
                <a:gridCol w="2717640"/>
                <a:gridCol w="271800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Expenses for Basic Nee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Inco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Resu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$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$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$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$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$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$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364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ED7A-AC19-4B2E-9D44-6ECFF7C7CC1B}" type="slidenum">
              <a:rPr b="1" lang="en-CA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y do we have poverty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6" name="Content Placeholder 5" descr=""/>
          <p:cNvPicPr/>
          <p:nvPr/>
        </p:nvPicPr>
        <p:blipFill>
          <a:blip r:embed="rId1"/>
          <a:stretch/>
        </p:blipFill>
        <p:spPr>
          <a:xfrm>
            <a:off x="596880" y="1579680"/>
            <a:ext cx="4091040" cy="4595760"/>
          </a:xfrm>
          <a:prstGeom prst="rect">
            <a:avLst/>
          </a:prstGeom>
          <a:ln w="0">
            <a:noFill/>
          </a:ln>
        </p:spPr>
      </p:pic>
      <p:pic>
        <p:nvPicPr>
          <p:cNvPr id="367" name="Content Placeholder 6" descr=""/>
          <p:cNvPicPr/>
          <p:nvPr/>
        </p:nvPicPr>
        <p:blipFill>
          <a:blip r:embed="rId2"/>
          <a:stretch/>
        </p:blipFill>
        <p:spPr>
          <a:xfrm>
            <a:off x="4767120" y="1579680"/>
            <a:ext cx="3975120" cy="4595760"/>
          </a:xfrm>
          <a:prstGeom prst="rect">
            <a:avLst/>
          </a:prstGeom>
          <a:ln w="0">
            <a:noFill/>
          </a:ln>
        </p:spPr>
      </p:pic>
      <p:sp>
        <p:nvSpPr>
          <p:cNvPr id="368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FFBB-05DA-4929-9AE6-AF3E848B0372}" type="slidenum">
              <a:rPr b="1" lang="en-CA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12:53:46Z</dcterms:created>
  <dc:creator>ladmin</dc:creator>
  <dc:description/>
  <dc:language>en-US</dc:language>
  <cp:lastModifiedBy>ladmin</cp:lastModifiedBy>
  <cp:lastPrinted>2013-04-09T14:49:27Z</cp:lastPrinted>
  <dcterms:modified xsi:type="dcterms:W3CDTF">2014-10-22T00:17:19Z</dcterms:modified>
  <cp:revision>145</cp:revision>
  <dc:subject/>
  <dc:title>Economic Empowerment</dc:title>
</cp:coreProperties>
</file>